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A8D4-C446-4412-A6C5-CBDF5976B67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 M. E. (1984). Environmental Learning without Being There. Environment and Behavior 16(3), 307-33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ract:</a:t>
            </a:r>
            <a:r>
              <a:rPr b="0" lang="en-US" sz="1200" spc="-1" strike="noStrike">
                <a:solidFill>
                  <a:srgbClr val="000000"/>
                </a:solidFill>
                <a:latin typeface="Arial"/>
              </a:rPr>
              <a:t> To evaluate the simulation technique, a field experiment was conducted. The sample was divided randomly into three groups: simulation group; site visit group; and control group. A person's working knowledge was defined operationally by assessing the following: confidence in way-finding ability; the mental image of the building; and way-finding ability in the building. The evaluation demonstrated that the working knowledge provided by the simulation technique was actually more useful than that provided by actual visits to the buil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man, N., Stanton-Fraser, D., Wilson, P. N., Duffy, H., &amp; Parnell, R. (2005). Transfer of spatial knowledge to a two-level shopping mall in older people, following virtual exploration. Environment and Behavior, 37(2), 275-29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ract:</a:t>
            </a:r>
            <a:r>
              <a:rPr b="0" lang="en-US" sz="1200" spc="-1" strike="noStrike">
                <a:solidFill>
                  <a:srgbClr val="000000"/>
                </a:solidFill>
                <a:latin typeface="Arial"/>
              </a:rPr>
              <a:t> Experimental group with in a VE training shows greater accuracy in making pointing judgments toward targets not visible from the pointing site, took shorter times to perform route tasks on foot, made better left-right directional judgments, and sketched better maps of the mall, than the control group without VE trai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G. A. (1967). Direction-finding in large buildings : a summary report. Manchester: University of Manchester Industrial Design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ract:</a:t>
            </a:r>
            <a:r>
              <a:rPr b="0" lang="en-US" sz="1200" spc="-1" strike="noStrike">
                <a:solidFill>
                  <a:srgbClr val="000000"/>
                </a:solidFill>
                <a:latin typeface="Arial"/>
              </a:rPr>
              <a:t>high correlation between the lostness and number of choices in that route.(r=.93). the 'lostness' of subjects is defined by deviation from the most direct route (the shortest p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sman, J. (1981). Evaluating architectural legibility: wayfinding in the built environment. Environment and Behavior, 13(2), 189-2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ract:</a:t>
            </a:r>
            <a:r>
              <a:rPr b="0" lang="en-US" sz="1200" spc="-1" strike="noStrike">
                <a:solidFill>
                  <a:srgbClr val="000000"/>
                </a:solidFill>
                <a:latin typeface="Arial"/>
              </a:rPr>
              <a:t>A significant relationship was found between judged simplicity of Building plan configuration diagrams and reported frequency of disorientation across 10 Buildings. simplicity judgments, provided by a group of independent raters, were able to account for 56% of the variance in reported frequency of disorientation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ill, M. J. (1991). Effects of Signage and Floor-Plan Configuration on Wayfinding Accuracy. Environment and Behavior, 23(5), 553-57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ract:</a:t>
            </a:r>
            <a:r>
              <a:rPr b="0" lang="en-US" sz="1200" spc="-1" strike="noStrike">
                <a:solidFill>
                  <a:srgbClr val="000000"/>
                </a:solidFill>
                <a:latin typeface="Arial"/>
              </a:rPr>
              <a:t>plan configuration was found to exert a significant influence regardless of signage, because the wayfinding performance of participants with access to signage in the most complex settings remained equivalent to, or significantly poorer than, those in the simplest settings with no sign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q, S., &amp; Zimring, C. (2003). Just down the road a piece: The development of topological knowledge of building layouts. Environment and Behavior, 35(1), 132-1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ponis, J., Zimring, C., &amp; Choi, Y. K. (1990). Finding the building in wayfinding. Environment and Behavior, 22(5), 555-5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ract:</a:t>
            </a:r>
            <a:r>
              <a:rPr b="0" lang="en-US" sz="1200" spc="-1" strike="noStrike">
                <a:solidFill>
                  <a:srgbClr val="000000"/>
                </a:solidFill>
                <a:latin typeface="Arial"/>
              </a:rPr>
              <a:t>Space Syntax measures of connectivity and integration were good predictors of the use of spaces during both open and directed search.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gel, A. W., &amp; White, S. H. (19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ract:</a:t>
            </a:r>
            <a:r>
              <a:rPr b="0" lang="en-US" sz="1200" spc="-1" strike="noStrike">
                <a:solidFill>
                  <a:srgbClr val="000000"/>
                </a:solidFill>
                <a:latin typeface="Arial"/>
              </a:rPr>
              <a:t> The authors show a strong parallel between a child's acquisition of spatial competence and an adult's acquisition of the spatial structure of a new environment. Landmarks are first noticed and remembered. The child acts in the context of these landmarks, and given landmarks and action-sequences, route formation is accomplished. Landmarks and routes are formed into clusters, but until an objective frame of reference is developed, these clusters remain uncoordinated with each other. Survey representations appear as a system of routes arising from and embedded in an objective frame of re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n, G. L. (1982). </a:t>
            </a:r>
            <a:r>
              <a:rPr b="1" lang="en-US" sz="1200" spc="-1" strike="noStrike">
                <a:solidFill>
                  <a:srgbClr val="000000"/>
                </a:solidFill>
                <a:latin typeface="Arial"/>
              </a:rPr>
              <a:t>abstract:</a:t>
            </a:r>
            <a:r>
              <a:rPr b="0" lang="en-US" sz="1200" spc="-1" strike="noStrike">
                <a:solidFill>
                  <a:srgbClr val="000000"/>
                </a:solidFill>
                <a:latin typeface="Arial"/>
              </a:rPr>
              <a:t> (1) adults and children do not spontaneously select the same environmental features as reference points after viewing a route; (2) college students exhibit more accurate spatial knowledge of the route than do seven- or ten-year-old children when all subjects are tested with scenes selected by their age peers on the basis of potential landmark value; and (3) the older children, but not the younger children, reflect more accurate spatial knowledge of the route when tested with reference scenes selected by their age pe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sen-Osmann, &amp; P. Fuchs, P. (2006). Jansen-Osmann, P., Schmid, J., &amp; Heil, M. (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ra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9D6A7C2-6AA4-4A57-BAA3-7860E2F6B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AB5EDC2-7214-4C76-B488-66088241E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E07587E-7904-4F8F-BFB7-9CCF35252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FE4020E-A87C-46C7-BAC3-162513E9A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794EB7-2B20-44F2-ACC7-9B0273C69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2014B-86F7-4E75-8E75-CCDAC7458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90C65-5C9B-430B-8AA0-11EBADA69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1F077-1541-4912-9702-3AD62DA43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6DADE-2208-48FE-B292-4BEDABE42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E5312-18C7-4155-840A-DFC23DF70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297AB-9A4F-4392-8C69-5322975DC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5EDC592-C76D-4B8E-8587-B092FFF33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C44D6-960B-4F8A-9E41-D31FB6C30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938A8-D301-41D5-BDF1-E51A23D2C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13288-E2FA-4F8E-A53E-85F2EEC91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CC7B8A-8ACD-47FA-807B-EB580C1C2A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7AC2FB-606C-405A-AF1B-28B03E684E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C02C98F-3460-4437-A83F-97F905EDA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3031535-B4B1-44F6-93AA-1629765FB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FC72A68-E7FC-4BE3-9044-5751B2A9F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0456F6E-A786-4FED-8BB3-A7A15412D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36FC532-DC03-4DC1-8486-B7780F781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D026218-B631-445D-8EFA-CBC278406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BCE568B-CE6F-45FD-8F7D-39715EEA7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85C2-CA14-4CA7-97EB-1509EC7850F8}" type="datetime">
              <a:rPr b="0" lang="zh-CN" sz="1200" spc="-1" strike="noStrike">
                <a:solidFill>
                  <a:srgbClr val="ffffff"/>
                </a:solidFill>
                <a:latin typeface="Times New Roman"/>
                <a:ea typeface="宋体"/>
              </a:rPr>
              <a:t>26/7/31</a:t>
            </a:fld>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4A0F-4355-487C-B071-B4D55E826FC8}"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宋体"/>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802EF-0E3B-4D75-96F4-1B42E8E90DEB}" type="datetime">
              <a:rPr b="0" lang="zh-CN" sz="1200" spc="-1" strike="noStrike">
                <a:solidFill>
                  <a:srgbClr val="ffffff"/>
                </a:solidFill>
                <a:latin typeface="Times New Roman"/>
                <a:ea typeface="宋体"/>
              </a:rPr>
              <a:t>26/7/31</a:t>
            </a:fld>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宋体"/>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38A45-94FC-4196-8A2C-880DEBFB45E4}"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ea typeface="宋体"/>
              </a:rPr>
              <a:t>Principles, Problems, &amp; Evidence</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宋体"/>
              </a:rPr>
              <a:t>Team Lefthook:</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宋体"/>
              </a:rPr>
              <a:t>Michelle Williams-Davis</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宋体"/>
              </a:rPr>
              <a:t>Lu, Yi</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宋体"/>
              </a:rPr>
              <a:t>Ali Asmi</a:t>
            </a:r>
            <a:endParaRPr b="0" lang="en-US" sz="2800" spc="-1" strike="noStrike">
              <a:solidFill>
                <a:srgbClr val="ffffff"/>
              </a:solidFill>
              <a:latin typeface="Garamond"/>
            </a:endParaRPr>
          </a:p>
        </p:txBody>
      </p:sp>
      <p:sp>
        <p:nvSpPr>
          <p:cNvPr id="4" name="PlaceHolder 3"/>
          <p:cNvSpPr>
            <a:spLocks noGrp="1"/>
          </p:cNvSpPr>
          <p:nvPr>
            <p:ph type="ftr" idx="5"/>
          </p:nvPr>
        </p:nvSpPr>
        <p:spPr/>
        <p:txBody>
          <a:bodyPr/>
          <a:p>
            <a:r>
              <a:t>MWD, LY</a:t>
            </a:r>
          </a:p>
        </p:txBody>
      </p:sp>
      <p:sp>
        <p:nvSpPr>
          <p:cNvPr id="5" name="PlaceHolder 4"/>
          <p:cNvSpPr>
            <a:spLocks noGrp="1"/>
          </p:cNvSpPr>
          <p:nvPr>
            <p:ph type="sldNum" idx="6"/>
          </p:nvPr>
        </p:nvSpPr>
        <p:spPr/>
        <p:txBody>
          <a:bodyPr/>
          <a:p>
            <a:fld id="{9AA3838E-6591-4919-B467-B07107FEF51D}" type="slidenum">
              <a:t>1</a:t>
            </a:fld>
          </a:p>
        </p:txBody>
      </p:sp>
      <p:sp>
        <p:nvSpPr>
          <p:cNvPr id="6" name="PlaceHolder 5"/>
          <p:cNvSpPr>
            <a:spLocks noGrp="1"/>
          </p:cNvSpPr>
          <p:nvPr>
            <p:ph type="dt" idx="4"/>
          </p:nvPr>
        </p:nvSpPr>
        <p:spPr/>
        <p:txBody>
          <a:bodyPr/>
          <a:p>
            <a:fld id="{7376E65C-1B91-4DE4-82B7-107CD68CE4E7}"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宋体"/>
              </a:rPr>
              <a:t>Principle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1. Provide transparency of environment and processes to user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2. Provide flexibility in design of environ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3. Patient centered-design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4. Reduce staff stres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5. User friendly environmen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MWD, LY</a:t>
            </a:r>
          </a:p>
        </p:txBody>
      </p:sp>
      <p:sp>
        <p:nvSpPr>
          <p:cNvPr id="5" name="PlaceHolder 4"/>
          <p:cNvSpPr>
            <a:spLocks noGrp="1"/>
          </p:cNvSpPr>
          <p:nvPr>
            <p:ph type="sldNum" idx="2"/>
          </p:nvPr>
        </p:nvSpPr>
        <p:spPr/>
        <p:txBody>
          <a:bodyPr/>
          <a:p>
            <a:fld id="{A625F119-6D15-4F57-8FB7-47C2F7C2A497}" type="slidenum">
              <a:t>2</a:t>
            </a:fld>
          </a:p>
        </p:txBody>
      </p:sp>
      <p:sp>
        <p:nvSpPr>
          <p:cNvPr id="6" name="PlaceHolder 5"/>
          <p:cNvSpPr>
            <a:spLocks noGrp="1"/>
          </p:cNvSpPr>
          <p:nvPr>
            <p:ph type="dt" idx="1"/>
          </p:nvPr>
        </p:nvSpPr>
        <p:spPr/>
        <p:txBody>
          <a:bodyPr/>
          <a:p>
            <a:fld id="{C14A4C9C-5C00-4BE1-B2CD-C9F94B7D185E}"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宋体"/>
              </a:rPr>
              <a:t>Problems</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宋体"/>
              </a:rPr>
              <a:t>1. The emergency department is unbelievable small and crowding. The visibility is limited by narrow hallways and many turns. </a:t>
            </a:r>
            <a:endParaRPr b="0" lang="en-US" sz="28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宋体"/>
              </a:rPr>
              <a:t>2. HKS design team proposes to use single entrance to reduce users' confusing and walking distance between different departments. The proposed layout of the new hospital seems very complicated. Whether the new design works, we need more investigation.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MWD, LY</a:t>
            </a:r>
          </a:p>
        </p:txBody>
      </p:sp>
      <p:sp>
        <p:nvSpPr>
          <p:cNvPr id="5" name="PlaceHolder 4"/>
          <p:cNvSpPr>
            <a:spLocks noGrp="1"/>
          </p:cNvSpPr>
          <p:nvPr>
            <p:ph type="sldNum" idx="2"/>
          </p:nvPr>
        </p:nvSpPr>
        <p:spPr/>
        <p:txBody>
          <a:bodyPr/>
          <a:p>
            <a:fld id="{257A45AB-61FF-4A32-8EA9-1C950FE4B756}" type="slidenum">
              <a:t>3</a:t>
            </a:fld>
          </a:p>
        </p:txBody>
      </p:sp>
      <p:sp>
        <p:nvSpPr>
          <p:cNvPr id="6" name="PlaceHolder 5"/>
          <p:cNvSpPr>
            <a:spLocks noGrp="1"/>
          </p:cNvSpPr>
          <p:nvPr>
            <p:ph type="dt" idx="1"/>
          </p:nvPr>
        </p:nvSpPr>
        <p:spPr/>
        <p:txBody>
          <a:bodyPr/>
          <a:p>
            <a:fld id="{2A8B3214-D940-4CC1-99DA-70DA94C4A3D9}"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宋体"/>
              </a:rPr>
              <a:t>Problem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宋体"/>
              </a:rPr>
              <a:t>3. The entire hospital will move into the new site in one weekend and still remain operation. It will cause lots of wayfinding problem and the movement disorder. </a:t>
            </a:r>
            <a:endParaRPr b="0" lang="en-US" sz="28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宋体"/>
              </a:rPr>
              <a:t>4. There are no real-time updated wayfinding aids in hospitals such as GPS/RFID. </a:t>
            </a:r>
            <a:endParaRPr b="0" lang="en-US" sz="28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宋体"/>
              </a:rPr>
              <a:t>5. The siblings and other materials objects that the patient's family has when entering the hospital leads to space issues in the waiting areas and exam rooms.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MWD, LY</a:t>
            </a:r>
          </a:p>
        </p:txBody>
      </p:sp>
      <p:sp>
        <p:nvSpPr>
          <p:cNvPr id="5" name="PlaceHolder 4"/>
          <p:cNvSpPr>
            <a:spLocks noGrp="1"/>
          </p:cNvSpPr>
          <p:nvPr>
            <p:ph type="sldNum" idx="2"/>
          </p:nvPr>
        </p:nvSpPr>
        <p:spPr/>
        <p:txBody>
          <a:bodyPr/>
          <a:p>
            <a:fld id="{DEFEC3AB-8B2A-4A0D-B14A-997DEF741106}" type="slidenum">
              <a:t>4</a:t>
            </a:fld>
          </a:p>
        </p:txBody>
      </p:sp>
      <p:sp>
        <p:nvSpPr>
          <p:cNvPr id="6" name="PlaceHolder 5"/>
          <p:cNvSpPr>
            <a:spLocks noGrp="1"/>
          </p:cNvSpPr>
          <p:nvPr>
            <p:ph type="dt" idx="1"/>
          </p:nvPr>
        </p:nvSpPr>
        <p:spPr/>
        <p:txBody>
          <a:bodyPr/>
          <a:p>
            <a:fld id="{FEAD5070-9292-4069-AF54-20F9FD7B1E05}"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宋体"/>
              </a:rPr>
              <a:t>Evidence</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ea typeface="宋体"/>
              </a:rPr>
              <a:t>1:</a:t>
            </a:r>
            <a:r>
              <a:rPr b="0" lang="en-US" sz="3200" spc="-1" strike="noStrike">
                <a:solidFill>
                  <a:srgbClr val="ffffff"/>
                </a:solidFill>
                <a:latin typeface="Garamond"/>
                <a:ea typeface="宋体"/>
              </a:rPr>
              <a:t> People with virtual environment</a:t>
            </a:r>
            <a:br>
              <a:rPr sz="3200"/>
            </a:br>
            <a:r>
              <a:rPr b="0" lang="en-US" sz="3200" spc="-1" strike="noStrike">
                <a:solidFill>
                  <a:srgbClr val="ffffff"/>
                </a:solidFill>
                <a:latin typeface="Garamond"/>
                <a:ea typeface="宋体"/>
              </a:rPr>
              <a:t>training performance better than people without</a:t>
            </a:r>
            <a:endParaRPr b="0" lang="en-US" sz="32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Hunt, M. E. (1984)</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Foreman, N., et al, (2005)</a:t>
            </a:r>
            <a:endParaRPr b="0" lang="en-US" sz="2000" spc="-1" strike="noStrike">
              <a:solidFill>
                <a:srgbClr val="ffffff"/>
              </a:solidFill>
              <a:latin typeface="Garamond"/>
            </a:endParaRPr>
          </a:p>
          <a:p>
            <a:pPr lvl="1" marL="690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ea typeface="宋体"/>
              </a:rPr>
              <a:t>2:</a:t>
            </a:r>
            <a:r>
              <a:rPr b="0" lang="en-US" sz="3200" spc="-1" strike="noStrike">
                <a:solidFill>
                  <a:srgbClr val="ffffff"/>
                </a:solidFill>
                <a:latin typeface="Garamond"/>
                <a:ea typeface="宋体"/>
              </a:rPr>
              <a:t> The influence of degree of simplicity of</a:t>
            </a:r>
            <a:br>
              <a:rPr sz="3200"/>
            </a:br>
            <a:r>
              <a:rPr b="0" lang="en-US" sz="3200" spc="-1" strike="noStrike">
                <a:solidFill>
                  <a:srgbClr val="ffffff"/>
                </a:solidFill>
                <a:latin typeface="Garamond"/>
                <a:ea typeface="宋体"/>
              </a:rPr>
              <a:t>floorplan</a:t>
            </a:r>
            <a:endParaRPr b="0" lang="en-US" sz="32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Best, G. A. (1967); Weisman, J. (1981); O'Neill, M. J. (1991) </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Haq, S., &amp; Zimring, C. (2003); Peponis, J., Zimring, C., &amp; Choi, Y. K. (1990) </a:t>
            </a:r>
            <a:endParaRPr b="0" lang="en-US" sz="2000" spc="-1" strike="noStrike">
              <a:solidFill>
                <a:srgbClr val="ffffff"/>
              </a:solidFill>
              <a:latin typeface="Garamond"/>
            </a:endParaRPr>
          </a:p>
        </p:txBody>
      </p:sp>
      <p:sp>
        <p:nvSpPr>
          <p:cNvPr id="4" name="PlaceHolder 3"/>
          <p:cNvSpPr>
            <a:spLocks noGrp="1"/>
          </p:cNvSpPr>
          <p:nvPr>
            <p:ph type="ftr" idx="3"/>
          </p:nvPr>
        </p:nvSpPr>
        <p:spPr/>
        <p:txBody>
          <a:bodyPr/>
          <a:p>
            <a:r>
              <a:t>MWD, LY</a:t>
            </a:r>
          </a:p>
        </p:txBody>
      </p:sp>
      <p:sp>
        <p:nvSpPr>
          <p:cNvPr id="5" name="PlaceHolder 4"/>
          <p:cNvSpPr>
            <a:spLocks noGrp="1"/>
          </p:cNvSpPr>
          <p:nvPr>
            <p:ph type="sldNum" idx="2"/>
          </p:nvPr>
        </p:nvSpPr>
        <p:spPr/>
        <p:txBody>
          <a:bodyPr/>
          <a:p>
            <a:fld id="{71A378E6-A327-488A-893B-E08BD4733AAB}" type="slidenum">
              <a:t>5</a:t>
            </a:fld>
          </a:p>
        </p:txBody>
      </p:sp>
      <p:sp>
        <p:nvSpPr>
          <p:cNvPr id="6" name="PlaceHolder 5"/>
          <p:cNvSpPr>
            <a:spLocks noGrp="1"/>
          </p:cNvSpPr>
          <p:nvPr>
            <p:ph type="dt" idx="1"/>
          </p:nvPr>
        </p:nvSpPr>
        <p:spPr/>
        <p:txBody>
          <a:bodyPr/>
          <a:p>
            <a:fld id="{FDFAA3AB-49E3-4951-B77D-3148EE120633}"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宋体"/>
              </a:rPr>
              <a:t>Evidence</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ea typeface="宋体"/>
              </a:rPr>
              <a:t>3:</a:t>
            </a:r>
            <a:r>
              <a:rPr b="0" lang="en-US" sz="3200" spc="-1" strike="noStrike">
                <a:solidFill>
                  <a:srgbClr val="ffffff"/>
                </a:solidFill>
                <a:latin typeface="Garamond"/>
                <a:ea typeface="宋体"/>
              </a:rPr>
              <a:t> Difference in spatial cognition/wayfinding ability between children and adults </a:t>
            </a:r>
            <a:endParaRPr b="0" lang="en-US" sz="3200" spc="-1" strike="noStrike">
              <a:solidFill>
                <a:srgbClr val="ffffff"/>
              </a:solidFill>
              <a:latin typeface="Garamond"/>
            </a:endParaRPr>
          </a:p>
          <a:p>
            <a:pPr lvl="1" marL="668520" indent="-2570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Siegel, A. W., &amp; White, S. H. (1975) </a:t>
            </a:r>
            <a:endParaRPr b="0" lang="en-US" sz="2000" spc="-1" strike="noStrike">
              <a:solidFill>
                <a:srgbClr val="ffffff"/>
              </a:solidFill>
              <a:latin typeface="Garamond"/>
            </a:endParaRPr>
          </a:p>
          <a:p>
            <a:pPr lvl="1" marL="668520" indent="-2570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Allen, G. L. (1982) </a:t>
            </a:r>
            <a:endParaRPr b="0" lang="en-US" sz="2000" spc="-1" strike="noStrike">
              <a:solidFill>
                <a:srgbClr val="ffffff"/>
              </a:solidFill>
              <a:latin typeface="Garamond"/>
            </a:endParaRPr>
          </a:p>
          <a:p>
            <a:pPr lvl="1" marL="668520" indent="-2570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Jansen-Osmann, et al, (2006, 2007) </a:t>
            </a:r>
            <a:endParaRPr b="0" lang="en-US" sz="2000" spc="-1" strike="noStrike">
              <a:solidFill>
                <a:srgbClr val="ffffff"/>
              </a:solidFill>
              <a:latin typeface="Garamond"/>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ea typeface="宋体"/>
              </a:rPr>
              <a:t>4:</a:t>
            </a:r>
            <a:r>
              <a:rPr b="0" lang="en-US" sz="3200" spc="-1" strike="noStrike">
                <a:solidFill>
                  <a:srgbClr val="ffffff"/>
                </a:solidFill>
                <a:latin typeface="Garamond"/>
                <a:ea typeface="宋体"/>
              </a:rPr>
              <a:t> people navigating in virtual environment have similar spatial performance to people navigating in the equivalent real-world environment</a:t>
            </a:r>
            <a:endParaRPr b="0" lang="en-US" sz="3200" spc="-1" strike="noStrike">
              <a:solidFill>
                <a:srgbClr val="ffffff"/>
              </a:solidFill>
              <a:latin typeface="Garamond"/>
            </a:endParaRPr>
          </a:p>
          <a:p>
            <a:pPr lvl="1" marL="668520" indent="-2570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宋体"/>
              </a:rPr>
              <a:t>ansen-Osmann, P., &amp; Wiedenbauer, G. (2004) </a:t>
            </a:r>
            <a:endParaRPr b="0" lang="en-US" sz="1800" spc="-1" strike="noStrike">
              <a:solidFill>
                <a:srgbClr val="ffffff"/>
              </a:solidFill>
              <a:latin typeface="Garamond"/>
            </a:endParaRPr>
          </a:p>
          <a:p>
            <a:pPr lvl="1" marL="668520" indent="-2570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宋体"/>
              </a:rPr>
              <a:t>Ruddle, R. A., &amp; Lessells, S. (2006)</a:t>
            </a:r>
            <a:r>
              <a:rPr b="0" lang="en-US" sz="2800" spc="-1" strike="noStrike">
                <a:solidFill>
                  <a:srgbClr val="ffffff"/>
                </a:solidFill>
                <a:latin typeface="Garamond"/>
                <a:ea typeface="宋体"/>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MWD, LY</a:t>
            </a:r>
          </a:p>
        </p:txBody>
      </p:sp>
      <p:sp>
        <p:nvSpPr>
          <p:cNvPr id="5" name="PlaceHolder 4"/>
          <p:cNvSpPr>
            <a:spLocks noGrp="1"/>
          </p:cNvSpPr>
          <p:nvPr>
            <p:ph type="sldNum" idx="2"/>
          </p:nvPr>
        </p:nvSpPr>
        <p:spPr/>
        <p:txBody>
          <a:bodyPr/>
          <a:p>
            <a:fld id="{D0CE979D-33F9-46DF-AB7E-D843DAF3C8DA}" type="slidenum">
              <a:t>6</a:t>
            </a:fld>
          </a:p>
        </p:txBody>
      </p:sp>
      <p:sp>
        <p:nvSpPr>
          <p:cNvPr id="6" name="PlaceHolder 5"/>
          <p:cNvSpPr>
            <a:spLocks noGrp="1"/>
          </p:cNvSpPr>
          <p:nvPr>
            <p:ph type="dt" idx="1"/>
          </p:nvPr>
        </p:nvSpPr>
        <p:spPr/>
        <p:txBody>
          <a:bodyPr/>
          <a:p>
            <a:fld id="{87DBDADA-107B-4841-B2DF-D05792F21AE9}"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宋体"/>
              </a:rPr>
              <a:t>Evidence</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5: Sound control and the design of workplace can reduce errors, increase effectiveness, and reduce staff turnover. </a:t>
            </a:r>
            <a:endParaRPr b="0" lang="en-US" sz="32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Joseph, Anjali &amp; Ulrich, Roger (2007) </a:t>
            </a:r>
            <a:endParaRPr b="0" lang="en-US" sz="20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Joseph, Anjali. (2006)</a:t>
            </a:r>
            <a:r>
              <a:rPr b="0" lang="en-US" sz="2800" spc="-1" strike="noStrike">
                <a:solidFill>
                  <a:srgbClr val="ffffff"/>
                </a:solidFill>
                <a:latin typeface="Garamond"/>
                <a:ea typeface="宋体"/>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MWD, LY</a:t>
            </a:r>
          </a:p>
        </p:txBody>
      </p:sp>
      <p:sp>
        <p:nvSpPr>
          <p:cNvPr id="5" name="PlaceHolder 4"/>
          <p:cNvSpPr>
            <a:spLocks noGrp="1"/>
          </p:cNvSpPr>
          <p:nvPr>
            <p:ph type="sldNum" idx="2"/>
          </p:nvPr>
        </p:nvSpPr>
        <p:spPr/>
        <p:txBody>
          <a:bodyPr/>
          <a:p>
            <a:fld id="{0078EA14-7FFF-482B-8A78-493A6E3AE5EA}" type="slidenum">
              <a:t>7</a:t>
            </a:fld>
          </a:p>
        </p:txBody>
      </p:sp>
      <p:sp>
        <p:nvSpPr>
          <p:cNvPr id="6" name="PlaceHolder 5"/>
          <p:cNvSpPr>
            <a:spLocks noGrp="1"/>
          </p:cNvSpPr>
          <p:nvPr>
            <p:ph type="dt" idx="1"/>
          </p:nvPr>
        </p:nvSpPr>
        <p:spPr/>
        <p:txBody>
          <a:bodyPr/>
          <a:p>
            <a:fld id="{391E5AB6-F786-4F95-A41A-E7551AC872B4}"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宋体"/>
              </a:rPr>
              <a:t>Questions?</a:t>
            </a: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MWD, LY</a:t>
            </a:r>
          </a:p>
        </p:txBody>
      </p:sp>
      <p:sp>
        <p:nvSpPr>
          <p:cNvPr id="4" name="PlaceHolder 3"/>
          <p:cNvSpPr>
            <a:spLocks noGrp="1"/>
          </p:cNvSpPr>
          <p:nvPr>
            <p:ph type="sldNum" idx="2"/>
          </p:nvPr>
        </p:nvSpPr>
        <p:spPr/>
        <p:txBody>
          <a:bodyPr/>
          <a:p>
            <a:fld id="{B56F7A92-73F6-4CA2-AD69-8C4F1DA804D4}" type="slidenum">
              <a:t>8</a:t>
            </a:fld>
          </a:p>
        </p:txBody>
      </p:sp>
      <p:sp>
        <p:nvSpPr>
          <p:cNvPr id="5" name="PlaceHolder 4"/>
          <p:cNvSpPr>
            <a:spLocks noGrp="1"/>
          </p:cNvSpPr>
          <p:nvPr>
            <p:ph type="dt" idx="1"/>
          </p:nvPr>
        </p:nvSpPr>
        <p:spPr/>
        <p:txBody>
          <a:bodyPr/>
          <a:p>
            <a:fld id="{322F34A5-0FE8-4A48-8468-AF1C69C4345B}"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5:29:51Z</dcterms:created>
  <dc:creator>Ron Davis</dc:creator>
  <dc:description/>
  <dc:language>en-US</dc:language>
  <cp:lastModifiedBy>Lu, Yi</cp:lastModifiedBy>
  <dcterms:modified xsi:type="dcterms:W3CDTF">2007-10-02T20:31:12Z</dcterms:modified>
  <cp:revision>20</cp:revision>
  <dc:subject/>
  <dc:title>Project Ideas</dc:title>
</cp:coreProperties>
</file>